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.gif" ContentType="image/gif"/>
  <Override PartName="/ppt/media/hellfire.wav" ContentType="audio/x-wav"/>
  <Override PartName="/ppt/media/warble.wav" ContentType="audio/x-wav"/>
  <Override PartName="/ppt/media/laser.wav" ContentType="audio/x-wav"/>
  <Override PartName="/ppt/media/fogblast.wav" ContentType="audio/x-wav"/>
  <Override PartName="/ppt/media/Lightning.wav" ContentType="audio/x-wav"/>
  <Override PartName="/ppt/media/whoosh.wav" ContentType="audio/x-wav"/>
  <Override PartName="/ppt/media/thunder.wav" ContentType="audio/x-wav"/>
  <Override PartName="/ppt/media/RadDial1.wav" ContentType="audio/x-wav"/>
  <Override PartName="/ppt/media/TIMEMACHINE.wav" ContentType="audio/x-wav"/>
  <Override PartName="/ppt/media/Blowout.wav" ContentType="audio/x-wav"/>
  <Override PartName="/ppt/media/image2.wmf" ContentType="image/x-wmf"/>
  <Override PartName="/ppt/media/chimes.wav" ContentType="audio/x-wav"/>
  <Override PartName="/ppt/media/image15.png" ContentType="image/png"/>
  <Override PartName="/ppt/media/image4.jpeg" ContentType="image/jpeg"/>
  <Override PartName="/ppt/media/image3.png" ContentType="image/png"/>
  <Override PartName="/ppt/media/image11.gif" ContentType="image/gif"/>
  <Override PartName="/ppt/media/image14.png" ContentType="image/png"/>
  <Override PartName="/ppt/media/space.wav" ContentType="audio/x-wav"/>
  <Override PartName="/ppt/media/teslaCoil%5B1%5D.wav" ContentType="audio/x-wav"/>
  <Override PartName="/ppt/media/stuka.wav" ContentType="audio/x-wav"/>
  <Override PartName="/ppt/media/camera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5.jpeg" ContentType="image/jpeg"/>
  <Override PartName="/ppt/media/explod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045-AEF6-4954-9552-7FABD5D6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895-717F-4131-A2E4-3C9D831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183-1981-435D-8266-1D18BC2E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903-465E-4262-A336-FE1966E2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8B9-5AC5-4ADD-B676-F221ADED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23A-E2F5-4A0E-91B0-326F8E61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506-EA1F-4022-AE37-2018A74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240-F856-4850-AE3E-A4E4CBC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E95-D4AE-42E1-8645-F7DC903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ADC-E0F3-4B77-9268-329B478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826-0EAC-4DDC-A79D-655625B8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1C9-3153-4734-B44D-3A7662A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© J Parki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0E27-9AE8-498D-9B7D-55F7FCE6E249}" type="slidenum"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warble.wav"/><Relationship Id="rId8" Type="http://schemas.openxmlformats.org/officeDocument/2006/relationships/audio" Target="../media/TIMEMACHINE.wav"/><Relationship Id="rId9" Type="http://schemas.openxmlformats.org/officeDocument/2006/relationships/audio" Target="../media/warble.wav"/><Relationship Id="rId10" Type="http://schemas.openxmlformats.org/officeDocument/2006/relationships/audio" Target="../media/hellfire.wav"/><Relationship Id="rId11" Type="http://schemas.openxmlformats.org/officeDocument/2006/relationships/audio" Target="../media/Lightning.wav"/><Relationship Id="rId12" Type="http://schemas.openxmlformats.org/officeDocument/2006/relationships/audio" Target="../media/thunder.wav"/><Relationship Id="rId13" Type="http://schemas.openxmlformats.org/officeDocument/2006/relationships/audio" Target="../media/Blowout.wav"/><Relationship Id="rId14" Type="http://schemas.openxmlformats.org/officeDocument/2006/relationships/audio" Target="../media/Blowout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audio" Target="../media/warble.wav"/><Relationship Id="rId10" Type="http://schemas.openxmlformats.org/officeDocument/2006/relationships/audio" Target="../media/teslaCoil%5B1%5D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stuka.wav"/><Relationship Id="rId18" Type="http://schemas.openxmlformats.org/officeDocument/2006/relationships/audio" Target="../media/camera.wav"/><Relationship Id="rId19" Type="http://schemas.openxmlformats.org/officeDocument/2006/relationships/audio" Target="../media/warble.wav"/><Relationship Id="rId20" Type="http://schemas.openxmlformats.org/officeDocument/2006/relationships/audio" Target="../media/warble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audio" Target="../media/teslaCoil%5B1%5D.wav"/><Relationship Id="rId31" Type="http://schemas.openxmlformats.org/officeDocument/2006/relationships/audio" Target="../media/teslaCoil%5B1%5D.wav"/><Relationship Id="rId32" Type="http://schemas.openxmlformats.org/officeDocument/2006/relationships/audio" Target="../media/teslaCoil%5B1%5D.wav"/><Relationship Id="rId33" Type="http://schemas.openxmlformats.org/officeDocument/2006/relationships/audio" Target="../media/teslaCoil%5B1%5D.wav"/><Relationship Id="rId34" Type="http://schemas.openxmlformats.org/officeDocument/2006/relationships/audio" Target="../media/teslaCoil%5B1%5D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Lightning.wav"/><Relationship Id="rId39" Type="http://schemas.openxmlformats.org/officeDocument/2006/relationships/audio" Target="../media/Lightning.wav"/><Relationship Id="rId40" Type="http://schemas.openxmlformats.org/officeDocument/2006/relationships/audio" Target="../media/Lightning.wav"/><Relationship Id="rId4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eslaCoil%5B1%5D.wav"/><Relationship Id="rId4" Type="http://schemas.openxmlformats.org/officeDocument/2006/relationships/audio" Target="../media/whoosh.wav"/><Relationship Id="rId5" Type="http://schemas.openxmlformats.org/officeDocument/2006/relationships/audio" Target="../media/teslaCoil%5B1%5D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RadDial1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arble.wav"/><Relationship Id="rId2" Type="http://schemas.openxmlformats.org/officeDocument/2006/relationships/audio" Target="../media/Blowout.wav"/><Relationship Id="rId3" Type="http://schemas.openxmlformats.org/officeDocument/2006/relationships/audio" Target="../media/Blowou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Blowout.wav"/><Relationship Id="rId7" Type="http://schemas.openxmlformats.org/officeDocument/2006/relationships/audio" Target="../media/Blowout.wav"/><Relationship Id="rId8" Type="http://schemas.openxmlformats.org/officeDocument/2006/relationships/audio" Target="../media/TIMEMACHIN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audio" Target="../media/warble.wav"/><Relationship Id="rId3" Type="http://schemas.openxmlformats.org/officeDocument/2006/relationships/audio" Target="../media/fogblas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IMEMACHINE.wav"/><Relationship Id="rId2" Type="http://schemas.openxmlformats.org/officeDocument/2006/relationships/audio" Target="../media/chimes.wav"/><Relationship Id="rId3" Type="http://schemas.openxmlformats.org/officeDocument/2006/relationships/audio" Target="../media/spac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arbl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hellfire.wav"/><Relationship Id="rId7" Type="http://schemas.openxmlformats.org/officeDocument/2006/relationships/audio" Target="../media/TIMEMACHIN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ogblast.wav"/><Relationship Id="rId2" Type="http://schemas.openxmlformats.org/officeDocument/2006/relationships/audio" Target="../media/Blowout.wav"/><Relationship Id="rId3" Type="http://schemas.openxmlformats.org/officeDocument/2006/relationships/audio" Target="../media/Blowou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RadDial1.wav"/><Relationship Id="rId5" Type="http://schemas.openxmlformats.org/officeDocument/2006/relationships/audio" Target="../media/RadDial1.wav"/><Relationship Id="rId6" Type="http://schemas.openxmlformats.org/officeDocument/2006/relationships/audio" Target="../media/space.wav"/><Relationship Id="rId7" Type="http://schemas.openxmlformats.org/officeDocument/2006/relationships/audio" Target="../media/RadDial1.wav"/><Relationship Id="rId8" Type="http://schemas.openxmlformats.org/officeDocument/2006/relationships/audio" Target="../media/RadDial1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fogblast.wav"/><Relationship Id="rId4" Type="http://schemas.openxmlformats.org/officeDocument/2006/relationships/audio" Target="../media/warble.wav"/><Relationship Id="rId5" Type="http://schemas.openxmlformats.org/officeDocument/2006/relationships/audio" Target="../media/space.wav"/><Relationship Id="rId6" Type="http://schemas.openxmlformats.org/officeDocument/2006/relationships/audio" Target="../media/laser.wav"/><Relationship Id="rId7" Type="http://schemas.openxmlformats.org/officeDocument/2006/relationships/audio" Target="../media/RadDial1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-152280" y="0"/>
            <a:ext cx="9524880" cy="705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52280" y="0"/>
            <a:ext cx="96012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480" y="-380880"/>
            <a:ext cx="10439280" cy="74674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1828800"/>
            <a:ext cx="5267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CLEAR ENERG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-228600" y="-609480"/>
            <a:ext cx="9677520" cy="800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62120" y="-990720"/>
            <a:ext cx="5333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CLEAR ENERG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701-C7C9-4F98-802D-67E1A8685633}" type="slidenum">
              <a:t>1</a:t>
            </a:fld>
          </a:p>
        </p:txBody>
      </p:sp>
    </p:spTree>
  </p:cSld>
  <p:transition advTm="5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ellf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hu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486400" y="1295280"/>
          <a:ext cx="282564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282564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ar F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fragmentation of heavy nuclei to form lighter, more stable 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219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Fission of U - 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286000" y="3352680"/>
                <a:ext cx="8380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1981080" y="1828800"/>
          <a:ext cx="140832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1828800"/>
                    <a:ext cx="14083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3880" y="1981080"/>
          <a:ext cx="6858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81080"/>
                    <a:ext cx="6858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685800"/>
            <a:ext cx="4038480" cy="388620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990720"/>
            <a:ext cx="4038480" cy="3886200"/>
          </a:xfrm>
          <a:prstGeom prst="irregularSeal2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14400"/>
            <a:ext cx="4038480" cy="388620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143000"/>
            <a:ext cx="4038480" cy="3886200"/>
          </a:xfrm>
          <a:prstGeom prst="irregularSeal2">
            <a:avLst/>
          </a:prstGeom>
          <a:solidFill>
            <a:srgbClr val="cc00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990720" y="1219320"/>
            <a:ext cx="5943600" cy="3886200"/>
          </a:xfrm>
          <a:prstGeom prst="irregularSeal2">
            <a:avLst/>
          </a:prstGeom>
          <a:solidFill>
            <a:srgbClr val="0099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4827600"/>
                <a:ext cx="7742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+</m:t>
                    </m:r>
                    <m:r>
                      <m:t xml:space="preserve">3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752480" y="5638680"/>
            <a:ext cx="5486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his is only one of several fissures that are possible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n average 2.5 neutrons are rel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934320" y="1600200"/>
            <a:ext cx="533160" cy="50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7010280" y="3733920"/>
            <a:ext cx="53352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034-BD4D-4B92-B2E0-EA5E548C1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evt="end">
                                        <p:tn val="41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2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evt="end">
                                        <p:tn val="43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tu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2280" y="0"/>
            <a:ext cx="7772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released in the fission o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can induce three more fissions, then nine, and so on leading to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in re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523880" y="2895480"/>
          <a:ext cx="7495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95480"/>
                    <a:ext cx="749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819520"/>
            <a:ext cx="304920" cy="99036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124080" y="2514600"/>
            <a:ext cx="1143000" cy="1447920"/>
            <a:chOff x="3124080" y="2514600"/>
            <a:chExt cx="1143000" cy="1447920"/>
          </a:xfrm>
        </p:grpSpPr>
        <p:sp>
          <p:nvSpPr>
            <p:cNvPr id="244" name=""/>
            <p:cNvSpPr/>
            <p:nvPr/>
          </p:nvSpPr>
          <p:spPr>
            <a:xfrm>
              <a:off x="3124080" y="32767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124080" y="25909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35812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25146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32004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6200" y="380988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0" name=""/>
          <p:cNvGraphicFramePr/>
          <p:nvPr/>
        </p:nvGraphicFramePr>
        <p:xfrm>
          <a:off x="4114800" y="1981080"/>
          <a:ext cx="7491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81080"/>
                    <a:ext cx="749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343400" y="2895480"/>
          <a:ext cx="749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895480"/>
                    <a:ext cx="749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038480" y="3733920"/>
          <a:ext cx="7495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733920"/>
                    <a:ext cx="749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876920" y="1828800"/>
            <a:ext cx="30456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2895480"/>
            <a:ext cx="30492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3886200"/>
            <a:ext cx="304920" cy="990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57800" y="1676520"/>
            <a:ext cx="1218960" cy="914040"/>
            <a:chOff x="5257800" y="1676520"/>
            <a:chExt cx="1218960" cy="914040"/>
          </a:xfrm>
        </p:grpSpPr>
        <p:sp>
          <p:nvSpPr>
            <p:cNvPr id="260" name=""/>
            <p:cNvSpPr/>
            <p:nvPr/>
          </p:nvSpPr>
          <p:spPr>
            <a:xfrm>
              <a:off x="5257800" y="2157840"/>
              <a:ext cx="105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257800" y="1724400"/>
              <a:ext cx="8942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7800" y="2350080"/>
              <a:ext cx="8128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52040" y="167652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14400" y="210960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70680" y="2494440"/>
              <a:ext cx="162360" cy="96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410080" y="2819520"/>
            <a:ext cx="914040" cy="990360"/>
            <a:chOff x="5410080" y="2819520"/>
            <a:chExt cx="914040" cy="990360"/>
          </a:xfrm>
        </p:grpSpPr>
        <p:sp>
          <p:nvSpPr>
            <p:cNvPr id="267" name=""/>
            <p:cNvSpPr/>
            <p:nvPr/>
          </p:nvSpPr>
          <p:spPr>
            <a:xfrm>
              <a:off x="5410080" y="33408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10080" y="2871720"/>
              <a:ext cx="6706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3548880"/>
              <a:ext cx="609480" cy="20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9520"/>
              <a:ext cx="121680" cy="104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02440" y="3288600"/>
              <a:ext cx="121680" cy="104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560" y="3705480"/>
              <a:ext cx="121680" cy="104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05520" y="4038480"/>
            <a:ext cx="1294920" cy="838080"/>
            <a:chOff x="5105520" y="4038480"/>
            <a:chExt cx="1294920" cy="838080"/>
          </a:xfrm>
        </p:grpSpPr>
        <p:sp>
          <p:nvSpPr>
            <p:cNvPr id="274" name=""/>
            <p:cNvSpPr/>
            <p:nvPr/>
          </p:nvSpPr>
          <p:spPr>
            <a:xfrm>
              <a:off x="5105520" y="447984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105520" y="4082040"/>
              <a:ext cx="950040" cy="26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4656240"/>
              <a:ext cx="8632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5560" y="4038480"/>
              <a:ext cx="172440" cy="87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28000" y="4435560"/>
              <a:ext cx="172440" cy="87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8800" y="4788360"/>
              <a:ext cx="172440" cy="88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324480" y="1447920"/>
            <a:ext cx="457200" cy="3724200"/>
            <a:chOff x="6324480" y="1447920"/>
            <a:chExt cx="457200" cy="3724200"/>
          </a:xfrm>
        </p:grpSpPr>
        <p:graphicFrame>
          <p:nvGraphicFramePr>
            <p:cNvPr id="281" name=""/>
            <p:cNvGraphicFramePr/>
            <p:nvPr/>
          </p:nvGraphicFramePr>
          <p:xfrm>
            <a:off x="6324480" y="1447920"/>
            <a:ext cx="400320" cy="44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14479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6324480" y="1905120"/>
            <a:ext cx="400320" cy="44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19051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6324480" y="2286000"/>
            <a:ext cx="40032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24480" y="228600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6324480" y="2666880"/>
            <a:ext cx="40032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26668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6324480" y="3124080"/>
            <a:ext cx="40032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31240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6324480" y="3505320"/>
            <a:ext cx="400320" cy="44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505320"/>
                      <a:ext cx="400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"/>
            <p:cNvGraphicFramePr/>
            <p:nvPr/>
          </p:nvGraphicFramePr>
          <p:xfrm>
            <a:off x="6324480" y="3886200"/>
            <a:ext cx="457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3886200"/>
                      <a:ext cx="457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6324480" y="4267080"/>
            <a:ext cx="40032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24480" y="42670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6324480" y="4724280"/>
            <a:ext cx="400320" cy="447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24480" y="4724280"/>
                      <a:ext cx="4003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9" name=""/>
          <p:cNvGrpSpPr/>
          <p:nvPr/>
        </p:nvGrpSpPr>
        <p:grpSpPr>
          <a:xfrm>
            <a:off x="6705720" y="1219320"/>
            <a:ext cx="533160" cy="4114800"/>
            <a:chOff x="6705720" y="1219320"/>
            <a:chExt cx="533160" cy="4114800"/>
          </a:xfrm>
        </p:grpSpPr>
        <p:sp>
          <p:nvSpPr>
            <p:cNvPr id="300" name=""/>
            <p:cNvSpPr/>
            <p:nvPr/>
          </p:nvSpPr>
          <p:spPr>
            <a:xfrm>
              <a:off x="6705720" y="121932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5720" y="205740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2895480"/>
              <a:ext cx="533160" cy="83844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5720" y="3657600"/>
              <a:ext cx="533160" cy="8380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720" y="4495680"/>
              <a:ext cx="533160" cy="83844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781680" y="1828800"/>
            <a:ext cx="914400" cy="3047760"/>
            <a:chOff x="6781680" y="1828800"/>
            <a:chExt cx="914400" cy="3047760"/>
          </a:xfrm>
        </p:grpSpPr>
        <p:sp>
          <p:nvSpPr>
            <p:cNvPr id="306" name=""/>
            <p:cNvSpPr/>
            <p:nvPr/>
          </p:nvSpPr>
          <p:spPr>
            <a:xfrm>
              <a:off x="6933960" y="1828800"/>
              <a:ext cx="76212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0" y="2666880"/>
              <a:ext cx="76176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0" y="3429000"/>
              <a:ext cx="76176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4267080"/>
              <a:ext cx="762120" cy="60948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29400" y="990720"/>
            <a:ext cx="2893320" cy="4571280"/>
            <a:chOff x="6629400" y="990720"/>
            <a:chExt cx="2893320" cy="4571280"/>
          </a:xfrm>
        </p:grpSpPr>
        <p:grpSp>
          <p:nvGrpSpPr>
            <p:cNvPr id="311" name=""/>
            <p:cNvGrpSpPr/>
            <p:nvPr/>
          </p:nvGrpSpPr>
          <p:grpSpPr>
            <a:xfrm>
              <a:off x="6629400" y="1498680"/>
              <a:ext cx="2893320" cy="3385440"/>
              <a:chOff x="6629400" y="1498680"/>
              <a:chExt cx="2893320" cy="3385440"/>
            </a:xfrm>
          </p:grpSpPr>
          <p:sp>
            <p:nvSpPr>
              <p:cNvPr id="312" name=""/>
              <p:cNvSpPr/>
              <p:nvPr/>
            </p:nvSpPr>
            <p:spPr>
              <a:xfrm>
                <a:off x="7111080" y="1498680"/>
                <a:ext cx="241164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70600" y="2429640"/>
                <a:ext cx="241056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70600" y="3276360"/>
                <a:ext cx="241056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29400" y="4207320"/>
                <a:ext cx="2411640" cy="67680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870960" y="990720"/>
              <a:ext cx="1687680" cy="4571280"/>
              <a:chOff x="6870960" y="990720"/>
              <a:chExt cx="1687680" cy="4571280"/>
            </a:xfrm>
          </p:grpSpPr>
          <p:sp>
            <p:nvSpPr>
              <p:cNvPr id="317" name=""/>
              <p:cNvSpPr/>
              <p:nvPr/>
            </p:nvSpPr>
            <p:spPr>
              <a:xfrm>
                <a:off x="6870960" y="99072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70960" y="192168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70960" y="2852640"/>
                <a:ext cx="1687680" cy="93132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870960" y="3699360"/>
                <a:ext cx="1687680" cy="93096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70960" y="4630680"/>
                <a:ext cx="1687680" cy="931320"/>
              </a:xfrm>
              <a:prstGeom prst="irregularSeal2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2" name="" descr=""/>
          <p:cNvPicPr/>
          <p:nvPr/>
        </p:nvPicPr>
        <p:blipFill>
          <a:blip r:embed="rId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8"/>
          <a:stretch/>
        </p:blipFill>
        <p:spPr>
          <a:xfrm>
            <a:off x="96775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7D0-DDCC-4C49-B3C7-6A187D3CBC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666880" y="1523880"/>
          <a:ext cx="2514600" cy="18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251460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0"/>
            <a:ext cx="89154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mass required for the chain reaction to become self-su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9480" y="2971800"/>
            <a:ext cx="2362320" cy="413640"/>
            <a:chOff x="609480" y="2971800"/>
            <a:chExt cx="2362320" cy="413640"/>
          </a:xfrm>
        </p:grpSpPr>
        <p:sp>
          <p:nvSpPr>
            <p:cNvPr id="329" name=""/>
            <p:cNvSpPr/>
            <p:nvPr/>
          </p:nvSpPr>
          <p:spPr>
            <a:xfrm>
              <a:off x="281952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447920" y="3047760"/>
              <a:ext cx="13716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30481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eut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971800" y="2819520"/>
            <a:ext cx="304920" cy="457200"/>
          </a:xfrm>
          <a:prstGeom prst="irregularSeal1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124080" y="1905120"/>
            <a:ext cx="1447560" cy="1065960"/>
            <a:chOff x="3124080" y="1905120"/>
            <a:chExt cx="1447560" cy="1065960"/>
          </a:xfrm>
        </p:grpSpPr>
        <p:sp>
          <p:nvSpPr>
            <p:cNvPr id="334" name=""/>
            <p:cNvSpPr/>
            <p:nvPr/>
          </p:nvSpPr>
          <p:spPr>
            <a:xfrm>
              <a:off x="4434120" y="1905120"/>
              <a:ext cx="137520" cy="133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124080" y="1971360"/>
              <a:ext cx="1379160" cy="99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00400" y="1447920"/>
            <a:ext cx="3581280" cy="1600200"/>
            <a:chOff x="3200400" y="1447920"/>
            <a:chExt cx="3581280" cy="1600200"/>
          </a:xfrm>
        </p:grpSpPr>
        <p:sp>
          <p:nvSpPr>
            <p:cNvPr id="337" name=""/>
            <p:cNvSpPr/>
            <p:nvPr/>
          </p:nvSpPr>
          <p:spPr>
            <a:xfrm>
              <a:off x="6629400" y="1447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200400" y="1523880"/>
              <a:ext cx="3429000" cy="152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200400" y="3048120"/>
            <a:ext cx="1600200" cy="152280"/>
            <a:chOff x="3200400" y="3048120"/>
            <a:chExt cx="1600200" cy="152280"/>
          </a:xfrm>
        </p:grpSpPr>
        <p:sp>
          <p:nvSpPr>
            <p:cNvPr id="340" name=""/>
            <p:cNvSpPr/>
            <p:nvPr/>
          </p:nvSpPr>
          <p:spPr>
            <a:xfrm>
              <a:off x="464832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312408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1676520"/>
            <a:ext cx="304920" cy="457200"/>
          </a:xfrm>
          <a:prstGeom prst="irregularSeal1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me neutrons ma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1219320"/>
            <a:ext cx="91440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Cause more f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34320" y="1219320"/>
            <a:ext cx="60948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Get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3276720"/>
            <a:ext cx="137160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Be absorbed by an 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724280" y="1066680"/>
            <a:ext cx="1219320" cy="838440"/>
            <a:chOff x="4724280" y="1066680"/>
            <a:chExt cx="1219320" cy="838440"/>
          </a:xfrm>
        </p:grpSpPr>
        <p:sp>
          <p:nvSpPr>
            <p:cNvPr id="348" name=""/>
            <p:cNvSpPr/>
            <p:nvPr/>
          </p:nvSpPr>
          <p:spPr>
            <a:xfrm flipV="1">
              <a:off x="4724280" y="1142640"/>
              <a:ext cx="4572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724280" y="1371600"/>
              <a:ext cx="83844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724280" y="1599840"/>
              <a:ext cx="1067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1066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86400" y="1295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1320" y="15238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38680" y="990720"/>
            <a:ext cx="6098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72428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a chain reaction to be self sustaining, every fission must produce at least one more neutron that will initiate further fi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655-58CA-456B-A06E-DB7A43CAE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slaCoi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295280"/>
            <a:ext cx="5486400" cy="45720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2514600"/>
            <a:ext cx="3124080" cy="243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700000">
            <a:off x="6536160" y="2013480"/>
            <a:ext cx="709560" cy="10666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18900000">
            <a:off x="6261480" y="4467600"/>
            <a:ext cx="823680" cy="914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16765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914400"/>
            <a:ext cx="76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914400"/>
            <a:ext cx="75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676520"/>
            <a:ext cx="7632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74320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23623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2133720"/>
            <a:ext cx="75960" cy="1752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04920" y="1295280"/>
            <a:ext cx="1752480" cy="946440"/>
            <a:chOff x="304920" y="1295280"/>
            <a:chExt cx="1752480" cy="946440"/>
          </a:xfrm>
        </p:grpSpPr>
        <p:sp>
          <p:nvSpPr>
            <p:cNvPr id="379" name=""/>
            <p:cNvSpPr/>
            <p:nvPr/>
          </p:nvSpPr>
          <p:spPr>
            <a:xfrm>
              <a:off x="1371600" y="1828800"/>
              <a:ext cx="685800" cy="304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129528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ressure vessel and biological sh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0" y="4266720"/>
            <a:ext cx="2895480" cy="1464840"/>
            <a:chOff x="0" y="4266720"/>
            <a:chExt cx="2895480" cy="1464840"/>
          </a:xfrm>
        </p:grpSpPr>
        <p:sp>
          <p:nvSpPr>
            <p:cNvPr id="382" name=""/>
            <p:cNvSpPr/>
            <p:nvPr/>
          </p:nvSpPr>
          <p:spPr>
            <a:xfrm flipV="1">
              <a:off x="1447920" y="4266720"/>
              <a:ext cx="1447560" cy="381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4572000"/>
              <a:ext cx="1752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raphite Moderator slows neutrons to thermal energies [1 MeV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48120" y="2743200"/>
            <a:ext cx="2514600" cy="1828800"/>
            <a:chOff x="3048120" y="2743200"/>
            <a:chExt cx="2514600" cy="1828800"/>
          </a:xfrm>
        </p:grpSpPr>
        <p:sp>
          <p:nvSpPr>
            <p:cNvPr id="385" name=""/>
            <p:cNvSpPr/>
            <p:nvPr/>
          </p:nvSpPr>
          <p:spPr>
            <a:xfrm>
              <a:off x="30481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53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625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1972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3240" y="2743200"/>
              <a:ext cx="763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86760" y="2743200"/>
              <a:ext cx="7596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0" y="2971800"/>
            <a:ext cx="3124080" cy="946440"/>
            <a:chOff x="0" y="2971800"/>
            <a:chExt cx="3124080" cy="946440"/>
          </a:xfrm>
        </p:grpSpPr>
        <p:sp>
          <p:nvSpPr>
            <p:cNvPr id="392" name=""/>
            <p:cNvSpPr/>
            <p:nvPr/>
          </p:nvSpPr>
          <p:spPr>
            <a:xfrm>
              <a:off x="1295280" y="3200400"/>
              <a:ext cx="1828800" cy="228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971800"/>
              <a:ext cx="12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Fuel Rods remain in reactor until sp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019920" y="5181480"/>
            <a:ext cx="1447560" cy="1248840"/>
            <a:chOff x="6019920" y="5181480"/>
            <a:chExt cx="1447560" cy="1248840"/>
          </a:xfrm>
        </p:grpSpPr>
        <p:sp>
          <p:nvSpPr>
            <p:cNvPr id="395" name=""/>
            <p:cNvSpPr/>
            <p:nvPr/>
          </p:nvSpPr>
          <p:spPr>
            <a:xfrm flipH="1" flipV="1">
              <a:off x="6781680" y="5181480"/>
              <a:ext cx="609840" cy="533520"/>
            </a:xfrm>
            <a:prstGeom prst="line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920" y="5638680"/>
              <a:ext cx="1447560" cy="7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Coolant [CO</a:t>
              </a:r>
              <a:r>
                <a:rPr b="1" lang="en-US" sz="1400" spc="-1" strike="noStrike" baseline="-25000">
                  <a:solidFill>
                    <a:srgbClr val="cc00ff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 or H</a:t>
              </a:r>
              <a:r>
                <a:rPr b="1" lang="en-US" sz="1400" spc="-1" strike="noStrike" baseline="-25000">
                  <a:solidFill>
                    <a:srgbClr val="cc00ff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O] to extract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162920" y="1600200"/>
            <a:ext cx="1981080" cy="946440"/>
            <a:chOff x="7162920" y="1600200"/>
            <a:chExt cx="1981080" cy="946440"/>
          </a:xfrm>
        </p:grpSpPr>
        <p:sp>
          <p:nvSpPr>
            <p:cNvPr id="398" name=""/>
            <p:cNvSpPr/>
            <p:nvPr/>
          </p:nvSpPr>
          <p:spPr>
            <a:xfrm flipV="1">
              <a:off x="7162920" y="1905120"/>
              <a:ext cx="380880" cy="304560"/>
            </a:xfrm>
            <a:prstGeom prst="line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1600200"/>
              <a:ext cx="160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ff"/>
                  </a:solidFill>
                  <a:latin typeface="Arial"/>
                </a:rPr>
                <a:t>To heat exchanger where steam is produc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33760" y="457200"/>
            <a:ext cx="2590920" cy="1447920"/>
            <a:chOff x="5333760" y="457200"/>
            <a:chExt cx="2590920" cy="1447920"/>
          </a:xfrm>
        </p:grpSpPr>
        <p:sp>
          <p:nvSpPr>
            <p:cNvPr id="401" name=""/>
            <p:cNvSpPr/>
            <p:nvPr/>
          </p:nvSpPr>
          <p:spPr>
            <a:xfrm flipH="1">
              <a:off x="5333760" y="1143000"/>
              <a:ext cx="609480" cy="762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1320" y="457200"/>
              <a:ext cx="213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Boron control rods absorb neutrons to control the re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423-DC84-43F6-B1D6-4D6632C10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0960" y="533520"/>
            <a:ext cx="20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ass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3429000"/>
            <a:ext cx="23032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the mass of the atom and the sum of the masses of its parts is called  the  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ss defect  (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8001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areful measurements show that the mass of a particular atom is always slightly less than the sum of the masses of the individual   protons, neutrons and electrons of which the atom consi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438280"/>
            <a:ext cx="7467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 helium nucleus consists of 2 protons and 2 neu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38280" y="3657600"/>
            <a:ext cx="3581640" cy="1066320"/>
            <a:chOff x="2438280" y="3657600"/>
            <a:chExt cx="3581640" cy="1066320"/>
          </a:xfrm>
        </p:grpSpPr>
        <p:sp>
          <p:nvSpPr>
            <p:cNvPr id="60" name=""/>
            <p:cNvSpPr/>
            <p:nvPr/>
          </p:nvSpPr>
          <p:spPr>
            <a:xfrm>
              <a:off x="3048120" y="3657600"/>
              <a:ext cx="2361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33920"/>
              <a:ext cx="15228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59092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95288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812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37339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4494960"/>
              <a:ext cx="121932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800600" y="4494960"/>
              <a:ext cx="121932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10080" y="4495680"/>
            <a:ext cx="152280" cy="152640"/>
            <a:chOff x="5410080" y="4495680"/>
            <a:chExt cx="152280" cy="152640"/>
          </a:xfrm>
        </p:grpSpPr>
        <p:sp>
          <p:nvSpPr>
            <p:cNvPr id="69" name=""/>
            <p:cNvSpPr/>
            <p:nvPr/>
          </p:nvSpPr>
          <p:spPr>
            <a:xfrm>
              <a:off x="5486040" y="4572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410080" y="4495680"/>
              <a:ext cx="152280" cy="152640"/>
              <a:chOff x="5410080" y="4495680"/>
              <a:chExt cx="152280" cy="152640"/>
            </a:xfrm>
          </p:grpSpPr>
          <p:sp>
            <p:nvSpPr>
              <p:cNvPr id="71" name=""/>
              <p:cNvSpPr/>
              <p:nvPr/>
            </p:nvSpPr>
            <p:spPr>
              <a:xfrm>
                <a:off x="5410080" y="44956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10080" y="4572000"/>
                <a:ext cx="7596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86040" y="449568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828800" y="5105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 protons &amp; 2 neutr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105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elium 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505320"/>
            <a:ext cx="3962160" cy="13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13640" y="3460680"/>
            <a:ext cx="3566880" cy="1566000"/>
            <a:chOff x="2213640" y="3460680"/>
            <a:chExt cx="3566880" cy="1566000"/>
          </a:xfrm>
        </p:grpSpPr>
        <p:sp>
          <p:nvSpPr>
            <p:cNvPr id="78" name=""/>
            <p:cNvSpPr/>
            <p:nvPr/>
          </p:nvSpPr>
          <p:spPr>
            <a:xfrm>
              <a:off x="3809880" y="3733560"/>
              <a:ext cx="15264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13640" y="3460680"/>
              <a:ext cx="3566880" cy="1566000"/>
              <a:chOff x="2213640" y="3460680"/>
              <a:chExt cx="3566880" cy="1566000"/>
            </a:xfrm>
          </p:grpSpPr>
          <p:sp>
            <p:nvSpPr>
              <p:cNvPr id="80" name=""/>
              <p:cNvSpPr/>
              <p:nvPr/>
            </p:nvSpPr>
            <p:spPr>
              <a:xfrm rot="21000000">
                <a:off x="2657160" y="3664800"/>
                <a:ext cx="2362320" cy="759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390040" y="3945600"/>
                <a:ext cx="291600" cy="9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4716720" y="3535560"/>
                <a:ext cx="291600" cy="9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81640" y="3945600"/>
                <a:ext cx="609120" cy="82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08320" y="3535560"/>
                <a:ext cx="608760" cy="82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21000000">
                <a:off x="2224080" y="4694400"/>
                <a:ext cx="1218960" cy="228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21000000">
                <a:off x="4550400" y="4284360"/>
                <a:ext cx="1219320" cy="228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5065200" y="4272840"/>
                <a:ext cx="176400" cy="176040"/>
                <a:chOff x="5065200" y="4272840"/>
                <a:chExt cx="176400" cy="176040"/>
              </a:xfrm>
            </p:grpSpPr>
            <p:sp>
              <p:nvSpPr>
                <p:cNvPr id="88" name=""/>
                <p:cNvSpPr/>
                <p:nvPr/>
              </p:nvSpPr>
              <p:spPr>
                <a:xfrm rot="21000000">
                  <a:off x="5159160" y="43531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5065200" y="4272840"/>
                  <a:ext cx="163080" cy="176040"/>
                  <a:chOff x="5065200" y="4272840"/>
                  <a:chExt cx="163080" cy="176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rot="21000000">
                    <a:off x="5070960" y="4291920"/>
                    <a:ext cx="7596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21000000">
                    <a:off x="5084280" y="4366800"/>
                    <a:ext cx="75960" cy="75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21000000">
                    <a:off x="5145840" y="4278600"/>
                    <a:ext cx="76320" cy="75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" name=""/>
              <p:cNvSpPr/>
              <p:nvPr/>
            </p:nvSpPr>
            <p:spPr>
              <a:xfrm rot="21000000">
                <a:off x="2607840" y="48031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1000000">
                <a:off x="2757960" y="4776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1000000">
                <a:off x="2908080" y="4750560"/>
                <a:ext cx="7596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000000">
                <a:off x="3058200" y="4723560"/>
                <a:ext cx="76320" cy="75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DE6-B918-4394-BD0C-AF03E3A241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676520"/>
            <a:ext cx="5181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 proton   (1.007277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219320"/>
            <a:ext cx="457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 neutron (1.008665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09680"/>
            <a:ext cx="5087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1" lang="en-GB" sz="18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= mass of an electron   (0.000548597 a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609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 atomic mass unit ( amu ) = 1.661 x 10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27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334120"/>
            <a:ext cx="7619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= [ Z(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(A-Z)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] - m</a:t>
            </a:r>
            <a:r>
              <a:rPr b="1" lang="en-GB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tom</a:t>
            </a:r>
            <a:r>
              <a:rPr b="0" lang="en-GB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522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1 amu  = 1/12 of the mass of an atom of Carbon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9548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Z = PROT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(ATOMIC NUMBER) AND    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ALSO EQUALS THE NUMBER OF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4290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 = NUCLE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(MASS NUMBER) AND      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ALSO EQUALS THE NUMBER OF 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ff99"/>
                </a:solidFill>
                <a:latin typeface="Times New Roman"/>
              </a:rPr>
              <a:t>PROTONS +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495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THE NUMBER OF NEUTRONS MUST BE  A -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C03-2F14-48C1-8A61-B84ABFC4C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elium the mass defect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371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 = [ 2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1.007277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0.000548597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+ 2 x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1.008665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–  4.021435   =  0. 0115462 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981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. 0115462 amu     x  1.661 x 10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27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=  1. 91782 x 10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-29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743200"/>
            <a:ext cx="8077320" cy="862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Einstein’s E = m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equivalent to a loss of energy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= 1.91782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9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les   =  1.726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962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gure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DING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Helium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76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INDING ENER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nucleus is defined as the energy which must be input to separate all of its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7C8-B2AC-40C6-A184-B433739CC8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2286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inding Energies are usually expressed in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28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1 amu = 931.3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2296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nding energy of the Helium nucleus is ther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0. 0115462 amu x 931.3 = 10.7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98108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compare the stabilities of different nucle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nding Energi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 NUCLE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n the nucleus are comp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83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elium this will be 10.7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÷ 4  =  2.69 MeV per nuc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800600"/>
            <a:ext cx="64008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higher the binding energy per nucle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greater the stability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CB7-3650-41EA-BED7-F5359E192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62320" y="198108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76520" y="914400"/>
            <a:ext cx="6019560" cy="4519440"/>
            <a:chOff x="1676520" y="914400"/>
            <a:chExt cx="6019560" cy="451944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914400"/>
              <a:ext cx="5867280" cy="4519440"/>
              <a:chOff x="1828800" y="914400"/>
              <a:chExt cx="5867280" cy="45194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828800" y="914400"/>
                <a:ext cx="5867280" cy="4519440"/>
                <a:chOff x="1828800" y="914400"/>
                <a:chExt cx="5867280" cy="4519440"/>
              </a:xfrm>
            </p:grpSpPr>
            <p:pic>
              <p:nvPicPr>
                <p:cNvPr id="123" name="" descr=""/>
                <p:cNvPicPr/>
                <p:nvPr/>
              </p:nvPicPr>
              <p:blipFill>
                <a:blip r:embed="rId1"/>
                <a:srcRect l="0" t="0" r="18000" b="8668"/>
                <a:stretch/>
              </p:blipFill>
              <p:spPr>
                <a:xfrm>
                  <a:off x="1828800" y="914400"/>
                  <a:ext cx="5867280" cy="451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2635200" y="914400"/>
                  <a:ext cx="4767480" cy="380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4648320" y="5105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676520" y="266688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590920" y="1212480"/>
            <a:ext cx="4190400" cy="3435840"/>
            <a:chOff x="2590920" y="1212480"/>
            <a:chExt cx="4190400" cy="3435840"/>
          </a:xfrm>
        </p:grpSpPr>
        <p:grpSp>
          <p:nvGrpSpPr>
            <p:cNvPr id="128" name=""/>
            <p:cNvGrpSpPr/>
            <p:nvPr/>
          </p:nvGrpSpPr>
          <p:grpSpPr>
            <a:xfrm>
              <a:off x="2590920" y="1212480"/>
              <a:ext cx="3656880" cy="3435840"/>
              <a:chOff x="2590920" y="1212480"/>
              <a:chExt cx="3656880" cy="34358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590920" y="1212480"/>
                <a:ext cx="1973160" cy="3435840"/>
                <a:chOff x="2590920" y="1212480"/>
                <a:chExt cx="1973160" cy="3435840"/>
              </a:xfrm>
            </p:grpSpPr>
            <p:sp>
              <p:nvSpPr>
                <p:cNvPr id="130" name=""/>
                <p:cNvSpPr/>
                <p:nvPr/>
              </p:nvSpPr>
              <p:spPr>
                <a:xfrm flipV="1">
                  <a:off x="2590920" y="2362320"/>
                  <a:ext cx="7272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37360" y="2366640"/>
                  <a:ext cx="125640" cy="601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2736720" y="2209680"/>
                  <a:ext cx="7308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809440" y="1212480"/>
                  <a:ext cx="1754280" cy="229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985" y="65"/>
                      </a:moveTo>
                      <a:arcTo wR="10800" hR="10800" stAng="-5021945" swAng="50219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985" y="65"/>
                      </a:moveTo>
                      <a:arcTo wR="10800" hR="10800" stAng="-5021945" swAng="5021945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541320" y="1219320"/>
                <a:ext cx="27064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172200" y="1523880"/>
              <a:ext cx="60912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962520" y="5181480"/>
            <a:ext cx="266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NUCLEON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18288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IND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r NUCLE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419720"/>
            <a:ext cx="38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238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838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3333cc"/>
                </a:solidFill>
                <a:latin typeface="Arial"/>
              </a:rPr>
              <a:t>56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1219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0666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.8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943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ron is the most stabl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2BB-7084-4BD3-BFF4-C93268F93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ellf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IMEMACH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143000" y="609120"/>
            <a:ext cx="5791320" cy="3508200"/>
            <a:chOff x="1143000" y="609120"/>
            <a:chExt cx="5791320" cy="3508200"/>
          </a:xfrm>
        </p:grpSpPr>
        <p:grpSp>
          <p:nvGrpSpPr>
            <p:cNvPr id="145" name=""/>
            <p:cNvGrpSpPr/>
            <p:nvPr/>
          </p:nvGrpSpPr>
          <p:grpSpPr>
            <a:xfrm>
              <a:off x="1143000" y="609120"/>
              <a:ext cx="5791320" cy="3429000"/>
              <a:chOff x="1143000" y="609120"/>
              <a:chExt cx="5791320" cy="342900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28800" y="609120"/>
                <a:ext cx="5105520" cy="3429000"/>
                <a:chOff x="1828800" y="609120"/>
                <a:chExt cx="5105520" cy="342900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1905120" y="832320"/>
                  <a:ext cx="4190400" cy="2901240"/>
                  <a:chOff x="1905120" y="832320"/>
                  <a:chExt cx="4190400" cy="290124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905120" y="832320"/>
                    <a:ext cx="3656880" cy="2901240"/>
                    <a:chOff x="1905120" y="832320"/>
                    <a:chExt cx="3656880" cy="290124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1905120" y="832320"/>
                      <a:ext cx="1973160" cy="2901240"/>
                      <a:chOff x="1905120" y="832320"/>
                      <a:chExt cx="1973160" cy="290124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 flipV="1">
                        <a:off x="1905120" y="1803240"/>
                        <a:ext cx="72720" cy="193032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1955520" y="1807560"/>
                        <a:ext cx="117720" cy="5061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 flipV="1">
                        <a:off x="2050920" y="1674000"/>
                        <a:ext cx="73080" cy="64332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 flipH="1">
                        <a:off x="2123640" y="832320"/>
                        <a:ext cx="1754280" cy="19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1985" y="65"/>
                            </a:moveTo>
                            <a:arcTo wR="10800" hR="10800" stAng="-5021945" swAng="502194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1985" y="65"/>
                            </a:moveTo>
                            <a:arcTo wR="10800" hR="10800" stAng="-5021945" swAng="5021945"/>
                          </a:path>
                        </a:pathLst>
                      </a:custGeom>
                      <a:noFill/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855520" y="838080"/>
                      <a:ext cx="2706480" cy="2574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>
                    <a:off x="5486400" y="1095120"/>
                    <a:ext cx="609120" cy="64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 flipV="1">
                  <a:off x="1828800" y="609120"/>
                  <a:ext cx="0" cy="342900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3962160"/>
                  <a:ext cx="510552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1143000" y="1066680"/>
                <a:ext cx="914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E/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019920" y="3657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457200" y="3026520"/>
            <a:ext cx="106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324480" y="3476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04920"/>
            <a:ext cx="70102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LTERNATIVE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52280"/>
            <a:ext cx="7620120" cy="441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38080" y="533520"/>
            <a:ext cx="6705720" cy="3657600"/>
            <a:chOff x="838080" y="533520"/>
            <a:chExt cx="6705720" cy="3657600"/>
          </a:xfrm>
        </p:grpSpPr>
        <p:grpSp>
          <p:nvGrpSpPr>
            <p:cNvPr id="165" name=""/>
            <p:cNvGrpSpPr/>
            <p:nvPr/>
          </p:nvGrpSpPr>
          <p:grpSpPr>
            <a:xfrm>
              <a:off x="2057400" y="949320"/>
              <a:ext cx="4190400" cy="2514960"/>
              <a:chOff x="2057400" y="949320"/>
              <a:chExt cx="4190400" cy="25149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057400" y="949320"/>
                <a:ext cx="3656880" cy="2514960"/>
                <a:chOff x="2057400" y="949320"/>
                <a:chExt cx="3656880" cy="251496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2057400" y="949320"/>
                  <a:ext cx="1973160" cy="2514960"/>
                  <a:chOff x="2057400" y="949320"/>
                  <a:chExt cx="1973160" cy="2514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2057400" y="949320"/>
                    <a:ext cx="72720" cy="1673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>
                    <a:off x="2110680" y="2180160"/>
                    <a:ext cx="111960" cy="4384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203200" y="2176920"/>
                    <a:ext cx="73080" cy="557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2275920" y="1780920"/>
                    <a:ext cx="1754280" cy="1683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985" y="65"/>
                        </a:moveTo>
                        <a:arcTo wR="10800" hR="10800" stAng="-5021945" swAng="50219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985" y="65"/>
                        </a:moveTo>
                        <a:arcTo wR="10800" hR="10800" stAng="-5021945" swAng="5021945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3007800" y="3236040"/>
                  <a:ext cx="2706480" cy="223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 flipV="1">
                <a:off x="5638680" y="3180600"/>
                <a:ext cx="609120" cy="5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981080" y="685800"/>
              <a:ext cx="0" cy="3505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1080" y="752760"/>
              <a:ext cx="51055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28958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E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62560" y="609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8960" y="533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60984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34290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9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10552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energy is lost when nuclei are synthes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F2F-52BC-44A6-9019-456E7860A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low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05120" y="1143000"/>
            <a:ext cx="990360" cy="3124080"/>
          </a:xfrm>
          <a:custGeom>
            <a:avLst/>
            <a:gdLst/>
            <a:ahLst/>
            <a:rect l="l" t="t" r="r" b="b"/>
            <a:pathLst>
              <a:path w="624" h="1968">
                <a:moveTo>
                  <a:pt x="624" y="0"/>
                </a:moveTo>
                <a:lnTo>
                  <a:pt x="480" y="48"/>
                </a:lnTo>
                <a:lnTo>
                  <a:pt x="336" y="144"/>
                </a:lnTo>
                <a:lnTo>
                  <a:pt x="288" y="192"/>
                </a:lnTo>
                <a:lnTo>
                  <a:pt x="240" y="288"/>
                </a:lnTo>
                <a:lnTo>
                  <a:pt x="192" y="384"/>
                </a:lnTo>
                <a:lnTo>
                  <a:pt x="144" y="528"/>
                </a:lnTo>
                <a:lnTo>
                  <a:pt x="144" y="624"/>
                </a:lnTo>
                <a:lnTo>
                  <a:pt x="96" y="768"/>
                </a:lnTo>
                <a:lnTo>
                  <a:pt x="96" y="912"/>
                </a:lnTo>
                <a:lnTo>
                  <a:pt x="48" y="672"/>
                </a:lnTo>
                <a:lnTo>
                  <a:pt x="0" y="1776"/>
                </a:lnTo>
                <a:lnTo>
                  <a:pt x="0" y="1968"/>
                </a:lnTo>
                <a:lnTo>
                  <a:pt x="624" y="1968"/>
                </a:lnTo>
                <a:lnTo>
                  <a:pt x="62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143000"/>
            <a:ext cx="3200400" cy="3124080"/>
          </a:xfrm>
          <a:custGeom>
            <a:avLst/>
            <a:gdLst/>
            <a:ahLst/>
            <a:rect l="l" t="t" r="r" b="b"/>
            <a:pathLst>
              <a:path w="2112" h="1968">
                <a:moveTo>
                  <a:pt x="0" y="0"/>
                </a:moveTo>
                <a:lnTo>
                  <a:pt x="0" y="1968"/>
                </a:lnTo>
                <a:lnTo>
                  <a:pt x="2112" y="1968"/>
                </a:lnTo>
                <a:lnTo>
                  <a:pt x="2112" y="1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828800" y="914040"/>
            <a:ext cx="5105520" cy="3429000"/>
            <a:chOff x="1828800" y="914040"/>
            <a:chExt cx="5105520" cy="3429000"/>
          </a:xfrm>
        </p:grpSpPr>
        <p:grpSp>
          <p:nvGrpSpPr>
            <p:cNvPr id="185" name=""/>
            <p:cNvGrpSpPr/>
            <p:nvPr/>
          </p:nvGrpSpPr>
          <p:grpSpPr>
            <a:xfrm>
              <a:off x="1905120" y="1137240"/>
              <a:ext cx="4190400" cy="2901240"/>
              <a:chOff x="1905120" y="1137240"/>
              <a:chExt cx="4190400" cy="29012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905120" y="1137240"/>
                <a:ext cx="3656880" cy="2901240"/>
                <a:chOff x="1905120" y="1137240"/>
                <a:chExt cx="3656880" cy="29012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1905120" y="1137240"/>
                  <a:ext cx="1973160" cy="2901240"/>
                  <a:chOff x="1905120" y="1137240"/>
                  <a:chExt cx="1973160" cy="29012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V="1">
                    <a:off x="1905120" y="2108160"/>
                    <a:ext cx="72720" cy="1930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55520" y="2112480"/>
                    <a:ext cx="117720" cy="506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2050920" y="1978920"/>
                    <a:ext cx="73080" cy="643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2123640" y="1137240"/>
                    <a:ext cx="1754280" cy="194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985" y="65"/>
                        </a:moveTo>
                        <a:arcTo wR="10800" hR="10800" stAng="-5021945" swAng="50219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985" y="65"/>
                        </a:moveTo>
                        <a:arcTo wR="10800" hR="10800" stAng="-5021945" swAng="5021945"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2855520" y="1143000"/>
                  <a:ext cx="2706480" cy="257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5486400" y="1400040"/>
                <a:ext cx="609120" cy="64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828800" y="914040"/>
              <a:ext cx="0" cy="3429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4267080"/>
              <a:ext cx="51055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962520" y="364824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380880"/>
            <a:ext cx="761760" cy="685800"/>
            <a:chOff x="2590920" y="380880"/>
            <a:chExt cx="761760" cy="685800"/>
          </a:xfrm>
        </p:grpSpPr>
        <p:sp>
          <p:nvSpPr>
            <p:cNvPr id="198" name=""/>
            <p:cNvSpPr/>
            <p:nvPr/>
          </p:nvSpPr>
          <p:spPr>
            <a:xfrm>
              <a:off x="2819520" y="6858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0920" y="3808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I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80880" y="4800600"/>
            <a:ext cx="845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avy nuclei may increase their stability by Nuclear F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334120"/>
            <a:ext cx="845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ght nuclei may increase their stability by Nuclear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657600"/>
            <a:ext cx="83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34A-B8A3-4025-9771-F354B8985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181480" y="30492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As atomic mass increases, the neutron to proton ratio for stable nuclei increases because proton-proton repulsion becomes significant, as the number of protons increases.   Cohesive nuclear forces arise form neutrons, so the neutron to proton ratio must increase for heavier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800" y="1522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Belt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295280"/>
            <a:ext cx="2675160" cy="4259520"/>
          </a:xfrm>
          <a:custGeom>
            <a:avLst/>
            <a:gdLst/>
            <a:ahLst/>
            <a:rect l="l" t="t" r="r" b="b"/>
            <a:pathLst>
              <a:path w="1685" h="2683">
                <a:moveTo>
                  <a:pt x="0" y="2613"/>
                </a:moveTo>
                <a:lnTo>
                  <a:pt x="505" y="1812"/>
                </a:lnTo>
                <a:lnTo>
                  <a:pt x="1138" y="772"/>
                </a:lnTo>
                <a:lnTo>
                  <a:pt x="1419" y="0"/>
                </a:lnTo>
                <a:lnTo>
                  <a:pt x="1685" y="70"/>
                </a:lnTo>
                <a:lnTo>
                  <a:pt x="1615" y="309"/>
                </a:lnTo>
                <a:lnTo>
                  <a:pt x="1264" y="1067"/>
                </a:lnTo>
                <a:lnTo>
                  <a:pt x="618" y="2051"/>
                </a:lnTo>
                <a:lnTo>
                  <a:pt x="70" y="2683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752480" y="1828800"/>
            <a:ext cx="3353040" cy="373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371600"/>
            <a:ext cx="2362320" cy="4114800"/>
          </a:xfrm>
          <a:custGeom>
            <a:avLst/>
            <a:gdLst/>
            <a:ahLst/>
            <a:rect l="l" t="t" r="r" b="b"/>
            <a:pathLst>
              <a:path w="1488" h="2592">
                <a:moveTo>
                  <a:pt x="0" y="2592"/>
                </a:moveTo>
                <a:cubicBezTo>
                  <a:pt x="80" y="2480"/>
                  <a:pt x="160" y="2368"/>
                  <a:pt x="240" y="2256"/>
                </a:cubicBezTo>
                <a:cubicBezTo>
                  <a:pt x="320" y="2144"/>
                  <a:pt x="400" y="2040"/>
                  <a:pt x="480" y="1920"/>
                </a:cubicBezTo>
                <a:cubicBezTo>
                  <a:pt x="560" y="1800"/>
                  <a:pt x="632" y="1680"/>
                  <a:pt x="720" y="1536"/>
                </a:cubicBezTo>
                <a:cubicBezTo>
                  <a:pt x="808" y="1392"/>
                  <a:pt x="928" y="1184"/>
                  <a:pt x="1008" y="1056"/>
                </a:cubicBezTo>
                <a:cubicBezTo>
                  <a:pt x="1088" y="928"/>
                  <a:pt x="1144" y="864"/>
                  <a:pt x="1200" y="768"/>
                </a:cubicBezTo>
                <a:cubicBezTo>
                  <a:pt x="1256" y="672"/>
                  <a:pt x="1304" y="568"/>
                  <a:pt x="1344" y="480"/>
                </a:cubicBezTo>
                <a:cubicBezTo>
                  <a:pt x="1384" y="392"/>
                  <a:pt x="1424" y="296"/>
                  <a:pt x="1440" y="240"/>
                </a:cubicBezTo>
                <a:cubicBezTo>
                  <a:pt x="1456" y="184"/>
                  <a:pt x="1432" y="184"/>
                  <a:pt x="1440" y="144"/>
                </a:cubicBezTo>
                <a:cubicBezTo>
                  <a:pt x="1448" y="104"/>
                  <a:pt x="1480" y="24"/>
                  <a:pt x="1488" y="0"/>
                </a:cubicBezTo>
              </a:path>
            </a:pathLst>
          </a:custGeom>
          <a:noFill/>
          <a:ln w="57240">
            <a:solidFill>
              <a:srgbClr val="00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447920" y="5410080"/>
            <a:ext cx="3962160" cy="276480"/>
            <a:chOff x="1447920" y="5410080"/>
            <a:chExt cx="3962160" cy="276480"/>
          </a:xfrm>
        </p:grpSpPr>
        <p:sp>
          <p:nvSpPr>
            <p:cNvPr id="209" name=""/>
            <p:cNvSpPr/>
            <p:nvPr/>
          </p:nvSpPr>
          <p:spPr>
            <a:xfrm>
              <a:off x="1447920" y="5562720"/>
              <a:ext cx="3962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66880" y="5410080"/>
              <a:ext cx="2286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roton number,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00200" y="914040"/>
            <a:ext cx="276480" cy="4724280"/>
            <a:chOff x="1600200" y="914040"/>
            <a:chExt cx="276480" cy="4724280"/>
          </a:xfrm>
        </p:grpSpPr>
        <p:sp>
          <p:nvSpPr>
            <p:cNvPr id="212" name=""/>
            <p:cNvSpPr/>
            <p:nvPr/>
          </p:nvSpPr>
          <p:spPr>
            <a:xfrm flipV="1">
              <a:off x="1752480" y="914040"/>
              <a:ext cx="0" cy="472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95440" y="3062160"/>
              <a:ext cx="2286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utron number, N = A -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962520" y="281952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078280" y="1430640"/>
            <a:ext cx="1714680" cy="2247480"/>
            <a:chOff x="2078280" y="1430640"/>
            <a:chExt cx="1714680" cy="2247480"/>
          </a:xfrm>
        </p:grpSpPr>
        <p:sp>
          <p:nvSpPr>
            <p:cNvPr id="216" name=""/>
            <p:cNvSpPr/>
            <p:nvPr/>
          </p:nvSpPr>
          <p:spPr>
            <a:xfrm rot="18300000">
              <a:off x="1681560" y="2385720"/>
              <a:ext cx="2507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lt of Stable Isoto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19240" y="2767680"/>
              <a:ext cx="3049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05520" y="4191120"/>
            <a:ext cx="37335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helium He- 4 the N:P ratio is 1 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724280"/>
            <a:ext cx="3733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uranium U- 238 the ratio is 1 : 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8FE-2C78-4EAA-A9E7-35F6245B81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gbla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ar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dDia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8:07:11Z</dcterms:created>
  <dc:creator>John Parkinson</dc:creator>
  <dc:description/>
  <dc:language>en-US</dc:language>
  <cp:lastModifiedBy>Janet </cp:lastModifiedBy>
  <dcterms:modified xsi:type="dcterms:W3CDTF">2005-05-21T00:59:59Z</dcterms:modified>
  <cp:revision>42</cp:revision>
  <dc:subject/>
  <dc:title>PowerPoint Presentation</dc:title>
</cp:coreProperties>
</file>